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8973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896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44800" y="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421920"/>
            <a:ext cx="29415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1308-B1C3-4D8C-8F10-E70C207433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тудентов 2-го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ультета «Финансы и креди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ст. преп. кафедры ЭиА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никова Екатерина Валерь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Разработка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бизнес-плана. Цели составления. Анализ рыночной ситуации: сканирование и анализ внутренней и внешней сре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Project Expert для подготовки бизнес-пла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ью дисциплины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дисциплин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езультате изучения к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Основы функционирования малого бизнес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студентов формируются навыки п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ча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 итогового контроля - заче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РАЗДЕЛОВ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1. МАЛЫЙ БИЗНЕС В ЭКОНОМИКЕ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ы развития малого предпринимательства в России: финансовые и организационные (доступа к ресурс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79320" y="4711680"/>
            <a:ext cx="5429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44800" y="9421920"/>
            <a:ext cx="29419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 2. ОРГАНИЗАЦИЯ И МЕХАНИЗМ ФУНКЦИОНИР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ОГО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77764-6752-4056-8213-3C43FEE9E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E5DC-CD59-4669-B811-A524FF34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F249A-D0AD-41E4-B0BD-80945F12E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0AA80-97AE-4E7F-908E-B3AAB4713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7246-29A0-4864-979F-BDECA736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9207-6064-471F-9DF0-25556FDA4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601FD-69CC-4DB8-95ED-2E2652D6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DCADC-4B31-4EA4-84CB-3FC6336A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3D470-E01C-4503-A3BA-40F64B15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F396-4636-4E7D-BA1D-CDAB89F9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D5D8-EA08-45B0-990A-07D36D5E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29A36-E690-49D0-B92F-D587A11C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E643B-EB2C-440C-B0A0-A3D12A0B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04B1-8C65-4285-9AE1-760E53B2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7A14-B852-4CE3-9FC1-8A6FC248C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5995-7F89-4C92-B251-31D0951DF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22DF-09A8-4E15-9B62-C84EEB8E0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1ABF-87BB-47EE-80B8-0FDB3C966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6F11A-17DC-44B8-B0C6-C58035F4A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DB63-FC6A-41FD-9596-1AB3930FC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A3FA7-107F-41CE-A0A8-86AAB1A9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52257-A39D-4C85-B797-6C1599A7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27749-6AB0-4AE1-8049-980090C8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C686-A275-482D-B238-015B617BB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8832-1A0E-4A7F-9B5D-D92385ECF0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9F7FE-E8D0-4D91-AE2E-BFC1C15EE45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9640" y="765000"/>
            <a:ext cx="8137800" cy="524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урс по выб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сновы функциониров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лого бизнес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ля студентов 2-го кур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акультета «Финансы и кред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.э.н., ст. преп. кафедры ЭиА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никова Екатерина Вале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4. Оценка ресурсов, необходимых для организации малого бизн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потребности малого предприятия в производственных и трудовых ресурсах. Подбор офисных, производственных, торговых и складских помещений. Закупка оборудования и формирование материально-производственных запасов. Методы поиска персона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ределение объема и оптимальной структуры источников финансирования. Оценка  возможностей привлечения заемных финансовых ресурсов (банковский кредит, лизинг, бюджетный креди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821844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5. Особенности экономического механизма функционирования малого бизне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ация производства на малых предприятиях. Выбор оптимальной организационной структуры управления. Логистика в малом бизнесе. Оптимальные формы и системы оплаты труда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затратами на малых предприятиях. Выбор метода ценообразования. Финансовое планирование (бюджетирование) в малом бизне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енности бухгалтерского учета и налогообложения на предприятиях, относящихся к субъектам малого и среднего предприниматель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ффективности деятельности малого предприятия и уровня рис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691920"/>
            <a:ext cx="821844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Тема 6. Разработка бизнес-плана создания малого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ктура бизнес-плана. Цели составления. Анализ рыночной ситуаци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канирование и анализ внутренней и внешн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егментирование рынка, выбор целевых сегментов и позиционирование товара. План маркетинга. План продаж. Производственный план. Организационный план. Финансовый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ние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 Exper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ля подготовки бизнес-пла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ю дисциплин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является формирование у студентов теоретических знаний об основах функционирования малого бизнеса и практических навыков по организации собственного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620640"/>
            <a:ext cx="835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Задачи дисциплины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сущность малого предпринимательства, его функции и роль в экономике России и развитых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характеризовать состояние малого бизнеса в России и выявить проблемы его развития; рассмотреть систему государственного регулирования малого бизнеса в Российской Федер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делить критерии выбора вида предпринимательской деятельности и организационно-правовой формы; рассмотреть процедуру государственной регистрации юридических лиц и ПБОЮ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ать оценку производственных, трудовых и финансовых ресурсов, необходимых для организации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ить порядок разработки бизнес-плана создания малого предприят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крыть особенности экономического функционирования малого бизне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В результате изучения кур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«Основы функционирования малого бизнес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у студентов формируются навыки по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проведению на основе изучения статистических данных анализа экономически и социально значимых проблем  развития малого предпринимательств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организации бизнеса (выбор вида и сферы деятельности, организационно-правовой формы, оценка необходимых ресурсов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разработке бизнес-плана малого предприятия (сбор и анализ необходимой информации, расчет финансово-экономических показателей и анализ полученных результатов, использование информационных технолог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24000" y="549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еделение ча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95280" y="1268280"/>
          <a:ext cx="8064360" cy="4762800"/>
        </p:xfrm>
        <a:graphic>
          <a:graphicData uri="http://schemas.openxmlformats.org/drawingml/2006/table">
            <a:tbl>
              <a:tblPr/>
              <a:tblGrid>
                <a:gridCol w="5256360"/>
                <a:gridCol w="792000"/>
                <a:gridCol w="1081080"/>
                <a:gridCol w="934920"/>
              </a:tblGrid>
              <a:tr h="522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емин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ст. раб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1. Малый бизнес: сущность, функции и роль в экономике России и зарубежных стра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2. Малый бизнес в России: состояние, проблемы и перспективы разви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3. Выбор вида предпринимательской деятельности и организационно-правовой формы, регистрация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4. Оценка ресурсов, необходимых для организации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5. Особенности экономического механизма функционирования малого бизн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ма 6. Разработка бизнес-плана создания малого предпри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68000" y="765000"/>
            <a:ext cx="8218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орма итогового контроля - зач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амках самостоятельной работы предусмотрено практическое задание по разработке бизнес-плана создания малого предпри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4232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 РАЗДЕЛОВ ДИСЦИПЛИНЫ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 algn="ctr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ЗДЕЛ 1. МАЛЫЙ БИЗНЕС В ЭКОНОМИКЕ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1. Малый бизнес: сущность, функции и роль в экономике России и зарубежных ст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Теория предпринимательства. Понятия «предпринимательская деятельность», «малое предпринимательство» и «малый бизнес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раткая история возникновения и развития малого бизнеса в экономически развитых странах и Росс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кономические, воспроизводственные и социальные функции малого предпринимательства и его роль в экономике России и развитых стра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личественные критерии малого бизнеса и его качественные характерис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Тема 2. Малый бизнес в России: состояние, проблемы и перспективы разви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Динамика социально-экономических показателей развития малого предпринимательства в России на современном этапе.    Отраслевая структура малого бизнеса.   Региональная дифференциация в уровне развития малого предпринимательства. Оценка степени инвестиционной и инновационной активности малого бизнеса в стран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блемы развития малого предпринимательства в России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финансовые и организационные (доступа к ресурсам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истема государственного  регулирования малого предпринимательства в России. Формирование в стране благоприятного предпринимательского климата. Государственная поддержка субъектов малого и среднего предпринимательства. Программно-целевой подход в регулировании малого бизнеса в Росс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000" y="836640"/>
            <a:ext cx="8351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РАЗДЕЛ 2. ОРГАНИЗАЦИЯ И МЕХАНИЗМ ФУНКЦИОНИРОВАН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ctr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МАЛОГО БИЗНЕ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Arial"/>
              </a:rPr>
              <a:t>Тема 3. Выбор вида предпринимательской деятельности и организационно-правовой формы, регистрация предприят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отивация предпринимательской деятельности. Оценка деловых качеств потенциального предпринимате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сферы и вида предпринимательской деятельности с учетом оценки потенциального уровня дохода, риска, а также наличия административных и экономических барьеров для создания новых предприяти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Формы создания малого бизнеса: организация нового предприятия, приобретение готовой фирмы, аренда предприятия, франчайзин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Определение места расположения малого предприятия с учетом удаленности от потребителей и поставщиков ресурсов, наличия производственной и финансовой инфраструктур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ыбор оптимальной организационно-правовой формы предприятия с учетом числа учредителей и возможности их участия в управлении, распределения прибыли и убытков, уровня финансовой ответственности, возможности привлечения дополнительных ресурс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цедура государственной регистрации юридических лиц и индивидуальных предпринимателей. Порядок составления учредительных докумен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8:05:10Z</dcterms:created>
  <dc:creator>A</dc:creator>
  <dc:description/>
  <dc:language>en-US</dc:language>
  <cp:lastModifiedBy>LEGION</cp:lastModifiedBy>
  <dcterms:modified xsi:type="dcterms:W3CDTF">2016-01-05T12:45:22Z</dcterms:modified>
  <cp:revision>38</cp:revision>
  <dc:subject/>
  <dc:title>Издержки производства и себестоимость продук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